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FD24-5CE7-4789-A38A-C982E02A6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2382-F927-4307-964F-97485F658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7440-339B-40BF-9438-DA5637E0A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B468-CD33-41C5-B9D0-F736B80E4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5094-1E42-4CDF-9A1F-8F70AA23A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2211-A2E3-46CF-B091-76A00AAEF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A8A4-62C0-48AD-86F4-8DF4BCA11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A641-C5F9-46EB-BDC6-F40A4C608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4E26-6445-4613-BAF5-68E210157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6E75-1DE6-4507-9A7F-0B023486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EC52-8447-44B9-83E2-5685AA2A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180E-16C4-404E-BE82-1E0C824C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D1AEA-6D14-4BE1-825C-9AFCA9A09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 </a:t>
            </a: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Clase 7 il 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5 de octubre del 20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Propósito # 11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Te gustan los deport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pia y respon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Qué comes en el desayun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Qué comes en el almuerz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Qué comes en la cen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Qué comes cuando tienes mucha hamb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Repaso de Vocabul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981080" y="1447920"/>
            <a:ext cx="144792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o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343400" y="2514600"/>
            <a:ext cx="2695680" cy="20559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343400" y="914400"/>
            <a:ext cx="27432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l desayu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5638680" y="2285640"/>
            <a:ext cx="0" cy="76212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952880" y="1752480"/>
            <a:ext cx="144792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ue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6553080" y="2819520"/>
            <a:ext cx="533520" cy="4572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95880" y="3657600"/>
            <a:ext cx="99072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4266720" y="3962520"/>
            <a:ext cx="838440" cy="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781680" y="2362320"/>
            <a:ext cx="236232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Pan </a:t>
            </a: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(tosta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7010280" y="3427560"/>
            <a:ext cx="198144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salchich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124080" y="3657600"/>
            <a:ext cx="144792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toc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80880" y="2895480"/>
            <a:ext cx="897120" cy="1295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752480" y="2562120"/>
            <a:ext cx="1135080" cy="17049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380880" y="5181480"/>
            <a:ext cx="1143000" cy="8575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2133720" y="5029200"/>
            <a:ext cx="1247760" cy="1295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3886200" y="4572000"/>
            <a:ext cx="1373040" cy="1657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5791320" y="5181480"/>
            <a:ext cx="1295280" cy="1143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V="1">
            <a:off x="6553080" y="4800600"/>
            <a:ext cx="228600" cy="4572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867280" y="4417920"/>
            <a:ext cx="236232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Arial"/>
              </a:rPr>
              <a:t>mantequi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9"/>
          <a:stretch/>
        </p:blipFill>
        <p:spPr>
          <a:xfrm>
            <a:off x="7620120" y="5029200"/>
            <a:ext cx="761760" cy="12574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5791320" y="6323040"/>
            <a:ext cx="129528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anqu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7543800" y="6170760"/>
            <a:ext cx="11430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6600"/>
                </a:solidFill>
                <a:latin typeface="Arial"/>
              </a:rPr>
              <a:t>si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191120" y="6248520"/>
            <a:ext cx="129528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v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209680" y="6246720"/>
            <a:ext cx="121932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er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33520" y="6019920"/>
            <a:ext cx="60948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905120" y="4343400"/>
            <a:ext cx="9144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af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0" y="4191120"/>
            <a:ext cx="198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Jug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(de naranj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Repaso de vocabul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960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l almuerz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1523880" cy="13208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410000" y="1676520"/>
            <a:ext cx="1457280" cy="1457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2630520" y="1600200"/>
            <a:ext cx="11034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457200" y="4048200"/>
            <a:ext cx="1676520" cy="15145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2362320" y="3733920"/>
            <a:ext cx="2286000" cy="1981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7238880" y="3124080"/>
            <a:ext cx="1581120" cy="1581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7"/>
          <a:stretch/>
        </p:blipFill>
        <p:spPr>
          <a:xfrm>
            <a:off x="6324480" y="4800600"/>
            <a:ext cx="895320" cy="16002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8"/>
          <a:stretch/>
        </p:blipFill>
        <p:spPr>
          <a:xfrm>
            <a:off x="6053040" y="990720"/>
            <a:ext cx="1719360" cy="1231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9"/>
          <a:stretch/>
        </p:blipFill>
        <p:spPr>
          <a:xfrm>
            <a:off x="5181480" y="3733920"/>
            <a:ext cx="900360" cy="14191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152280" y="3048120"/>
            <a:ext cx="236232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amburgu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666880" y="2971800"/>
            <a:ext cx="121932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ap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ri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029200" y="2743200"/>
            <a:ext cx="121932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iz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7467480" y="1751040"/>
            <a:ext cx="167652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ándw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934320" y="2133720"/>
            <a:ext cx="220968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mpared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553080" y="2513160"/>
            <a:ext cx="190512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ocadi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7848720" y="1370160"/>
            <a:ext cx="121896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o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5638680"/>
            <a:ext cx="152388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sal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971800" y="5715000"/>
            <a:ext cx="106668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o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181480" y="5105520"/>
            <a:ext cx="106704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ec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248520" y="6246720"/>
            <a:ext cx="121896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7315200" y="4646520"/>
            <a:ext cx="167652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Gaseo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391520" y="5027760"/>
            <a:ext cx="121896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7315200" y="5484960"/>
            <a:ext cx="175248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fres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0584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Repaso de vocabul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3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a c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1857600" cy="15336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362320" y="1600200"/>
            <a:ext cx="1549440" cy="17240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191120" y="1676520"/>
            <a:ext cx="2562120" cy="1780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398520" y="3962520"/>
            <a:ext cx="1506600" cy="16761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2209680" y="4343400"/>
            <a:ext cx="1933560" cy="1447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4267080" y="4191120"/>
            <a:ext cx="1482840" cy="16002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457200" y="3274920"/>
            <a:ext cx="99072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ol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438280" y="3274920"/>
            <a:ext cx="11430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ist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724280" y="3200400"/>
            <a:ext cx="1524240" cy="6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es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7086600" y="3198960"/>
            <a:ext cx="190512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amaró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7086600" y="1447920"/>
            <a:ext cx="1905120" cy="1743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228600" y="5713560"/>
            <a:ext cx="175248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hulet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362320" y="5865840"/>
            <a:ext cx="190476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egeta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419720" y="5867280"/>
            <a:ext cx="1371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ide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5715000" y="40672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7315200" y="4280040"/>
            <a:ext cx="1828800" cy="13064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5867280" y="5410080"/>
            <a:ext cx="1371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rro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543800" y="5560920"/>
            <a:ext cx="1371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rij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162920" y="6018120"/>
            <a:ext cx="198108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abichue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Los verbos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INTERESAR, ABURRIR, GUSTAR</a:t>
            </a:r>
            <a:br>
              <a:rPr sz="4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Expressing what interests, bores or pleases you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320" y="1874880"/>
            <a:ext cx="9067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Interesar (to interest)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Aburrir (to bo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oth function the same as in English, for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Te aburre el béisbol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, el béisbol me intere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Te aburren los deport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, los deportes me interes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327672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ff"/>
                </a:solidFill>
                <a:latin typeface="Arial"/>
              </a:rPr>
              <a:t>Does baseball bore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ff"/>
                </a:solidFill>
                <a:latin typeface="Arial"/>
              </a:rPr>
              <a:t>No, baseball interests 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502920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ff"/>
                </a:solidFill>
                <a:latin typeface="Arial"/>
              </a:rPr>
              <a:t>Do sports bore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59436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ff"/>
                </a:solidFill>
                <a:latin typeface="Arial"/>
              </a:rPr>
              <a:t>No, sports interest 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33520" y="274320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17 (1-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1371600"/>
            <a:ext cx="82296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9T21:48:00Z</dcterms:created>
  <dc:creator>Helen Zumaeta</dc:creator>
  <dc:description/>
  <dc:language>en-US</dc:language>
  <cp:lastModifiedBy>Helen Zumaeta</cp:lastModifiedBy>
  <dcterms:modified xsi:type="dcterms:W3CDTF">2012-10-05T21:22:40Z</dcterms:modified>
  <cp:revision>13</cp:revision>
  <dc:subject/>
  <dc:title>Me llamo ________  Clase 7 IM La fecha es el 20 de enero del 2011</dc:title>
</cp:coreProperties>
</file>